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57D7-273C-4697-8A54-6EFA1C927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0420-7970-4139-9A54-F6A4FB02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72E0-B316-4DD5-A541-AF3BD0DB0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6EB7-143E-417F-8C17-49E9AA914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270A-7F95-4F90-A5CC-A379CCA8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AE2E-AC64-417A-AA1C-B895B1F0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2E89-C5B4-4EC5-85A9-0C4422F3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84CE-A0EA-4CF5-93F7-16132022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F7D6-8807-461D-BFB6-06433EBA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FC81-D4C0-431E-AB6A-50B7D46D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32F0-1462-4F15-A9E3-073C5D59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D880-DE36-48E4-9642-D74AD0C2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B93B-DE74-48A5-8246-FC73B8A28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faculty.evansville.edu/rl29/art105/img/picasso_3musicians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hyperlink" Target="http://www.aviewoncities.com/madrid/plazadecibeles" TargetMode="External"/><Relationship Id="rId4" Type="http://schemas.openxmlformats.org/officeDocument/2006/relationships/hyperlink" Target="http://www.spanish-town-guides.com/facts.htm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roadway"/>
              </a:rPr>
              <a:t>Spain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Caroline Wil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Elise Gre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Tindall Mor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Broadway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 grade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Broadway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 peri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Randolph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BASIC INF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The population of Spain is 40 million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The flag has two red stripes and one yellow with a symbol in the midd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The language in Spain is Spa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The common currency in Spain is pes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029200" y="4572000"/>
            <a:ext cx="2816280" cy="2038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68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68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68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68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roadway"/>
              </a:rPr>
              <a:t>Madrid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Madrid is the capital of S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About 3 million people live in Mad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Cibeles fountain is one of Madrid's most important symbols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4267080"/>
            <a:ext cx="3581280" cy="2367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Physical Features/ Cli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Rivers in Spain: Douro, Ebro, Guadiana, Guadalquivir, and Tag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The Pyrenees mountains divide Spain and 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Spanish summers are hot and dry and winters are cold and 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733920" y="3890880"/>
            <a:ext cx="3962160" cy="2967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roadway"/>
              </a:rPr>
              <a:t>CULT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The week before Easter they have palm Sunday process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Important days are celebrated with fiestas, dancing, and mus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roadway"/>
              </a:rPr>
              <a:t>Foo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Meat , sausages, melons, and oranges  are very popular in Sp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A popular dish in Spain is Pae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0" y="3922560"/>
            <a:ext cx="3505320" cy="2935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roadway"/>
              </a:rPr>
              <a:t>Art/Monum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A statue of Christopher Columbus is in Barcel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Some famous Spanish artists are Picasso, Goya, Murillo, and Velazqu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38480" y="3733920"/>
            <a:ext cx="3124440" cy="284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5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657600" y="3657600"/>
            <a:ext cx="4191120" cy="32004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Sports and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White water rafting is a popular sport in S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Cycling, golf, skiing, tennis, and bull fight are popular sports in Sp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roadway"/>
              </a:rPr>
              <a:t>Bibliograph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Boo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1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roadway"/>
              </a:rPr>
              <a:t>Picture a country Spai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Broadway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Broadway"/>
              </a:rPr>
              <a:t>p. 6-9 12-15 22-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2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roadway"/>
              </a:rPr>
              <a:t>Eye witness travel guide SPAIN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roadway"/>
              </a:rPr>
              <a:t>p. 27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Broadway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Website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roadwa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oadwa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1.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Broadway"/>
                <a:hlinkClick r:id="rId3"/>
              </a:rPr>
              <a:t>www.aviewoncities.com/madrid/plazadecibe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2.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Broadway"/>
                <a:hlinkClick r:id="rId4"/>
              </a:rPr>
              <a:t>www.spanish-town-guides.com/facts.ht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roadwa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Broadway"/>
              </a:rPr>
              <a:t>2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16:09:19Z</dcterms:created>
  <dc:creator>carolinewilson</dc:creator>
  <dc:description/>
  <dc:language>en-US</dc:language>
  <cp:lastModifiedBy>carolinewilson</cp:lastModifiedBy>
  <dcterms:modified xsi:type="dcterms:W3CDTF">2009-02-12T16:15:56Z</dcterms:modified>
  <cp:revision>8</cp:revision>
  <dc:subject/>
  <dc:title>SPAIN!!</dc:title>
</cp:coreProperties>
</file>